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674-E341-4E88-9754-50E2D6B8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D26-D106-4D04-8F8E-EC2653F4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009-DB71-4C75-AA0A-87FB1716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974-D1A4-470A-9691-10B966E8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C903-D134-414C-960E-AB528C9F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E59B-30DB-4B56-B630-3A84C79D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1A06-EADE-4D21-93E7-8D6DBDB3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CEC3-C1A3-402D-A048-F67B4F6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B221-E559-4D86-B85A-77104646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1F2B-C061-4FE1-B3AC-3A48F118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D21A-660C-4A63-BFDF-1A379D9C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202-FC73-4B9B-B787-0494F97A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A648-61F3-41AC-AD7C-2C0E53C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92D-9648-4D37-9330-AC28CA9F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87BE-58D1-4F90-B781-E7F425C6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BF97-1E34-4577-B928-FB873676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919D-CAAE-432F-8740-0F1F74ED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F0F-B4D1-4766-B646-80F1E56B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0A0-A6FB-4965-A189-A554E791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451-84C2-4E74-878A-0CDF7EB8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F06-6E35-484B-A00E-EA776F3B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EAD-E9E0-44F0-A5EC-4D406C6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3AA-1B1F-4BFE-9E04-E0C34103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694-C1E4-46A2-87AF-B11B40C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F641-FAD7-41F0-A459-5A034B11A2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FAE1-AEC9-4738-9336-7B7B80A2D2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ina Auto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rso di Interfac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omo-Mac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.A 2006/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Use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358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seleziona una giornata di campionato precedente rispetto a quella attua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ecupera, dal DataBase Schedina, la lista delle partite ed i rispettivi risultati, in base alla giornata selezionata e li mostra a vide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seleziona una partita di campionato successiva rispetto a quella attua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ecupera, dal DataBase Schedina, la lista delle partite in base alla giornata selezionata e le mostra a vide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seleziona selezione dalla barra dei menu la modalità Adm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ichiede che l’attore inserisca la password di amministrazi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ttore inserisce la password e clicca sul pulsante 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valida la password inserita e logga l’attore nel sistema con modalità amministrat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0" y="75168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5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Us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lusso Alternativo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word non v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 nel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lusso Alternativo10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l’attore inserisce una password non valida, i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istema visualizza nuovamente la richiesta di immissione della passwor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’attore può scegliere di ritornare al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lusso Bas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cliccando sul pulsan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Annull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o sulla spunta di chiusura della finestra, oppure può digita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uovamente la password e cliccare sul pulsante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reve Descr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le use case permette ad un amministratore di inserire i risultati della prossima giornata di campionato, di modificare i risultati delle partite di campionato già giocate, di aggiornare il Campionato o, infine, di modificare la password di amministr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Adm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Adm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2008080"/>
            <a:ext cx="813744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 use case inizia quando l’amministratore vuole inserire o modificare i risultati di una o più partite del campionato, caricare un nuovo campionato, oppure modificare la pass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sistema recupera la lista delle partite della prossima giornata di campionato dal DataBase Schedina e la visualizza all’amministra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amministratore seleziona il risulato da inserire in corrispondenza di ciascuna partita di cui voglia effettuare l’inser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pressione del pulsant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serisc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provoca la memorizzazione dei risultati nel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sistema visualizza all’amministratore in messaggio di avvenuto inserim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Adm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serimento non riusc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Se ne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Base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a memorizzazione dei risultati non va a buon fine, il sistem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visualizza un messaggio di error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può scegliere di ripetere l’operazione, di passare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Alternativo2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Alternativo4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oppure di chiudere la finestra d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mministrazione, nel qual caso lo use case term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seleziona una giornata di campionato antecedente rispetto a quella attua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ecupera dal DataBase Schedina la lista delle partite, ed i rispettivi risultati, in base alla giornata selezionata, e li mostra a vid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Modifica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per attivare la possibilità di modifica dei risulta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può modificare uno o più risultat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a selezione de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Aggiorna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provoca l’aggiornamento nel Data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visualizza all’amministratore un messaggio di avvenuto aggiorna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Adm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ggiornamento non riusc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Se ne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Alternativo2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l’aggiornamento dei risultati non è andato a buon fine, il sistema visualizza  un messaggio di erro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può scegliere di ripetere l’operazione, di passare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Bas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Alternativo4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oppure di chiudere PanelAdmin, nel qual caso lo use case termin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seleziona una giornata di campionato successiva rispetto a quella attua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ecupera dal DataBase Schedina la lista delle partite della giornata selezionata e la mostra a vide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5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Adm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seleziona dalla barra dei menu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Aggiorna Campion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ichiede che l’amministratore selezioni il file per effettuare l’aggiornam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ttore seleziona il file tramite una finestra per lo scorrimento del file 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visualizza un messaggio con cui avvisa l’amministratore che l’aggiornamento provocherà la perdita del vecchio Campion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avvisa l’amministratore che l’aggiornamento è avvenuto con successo e che è necessario riavviare il sistema per renderlo visibi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si arresta e lo use case term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ne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Alternativo5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itorna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Bas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500"/>
                            </p:stCondLst>
                            <p:childTnLst>
                              <p:par>
                                <p:cTn id="6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Adm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ne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Alternativo5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chiude la finestra di selezione del file, oppure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Annul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itorna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Bas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rore nell’aggiornamento del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avvisa l’amministratore che si è verificato un errore nell’aggiornamento del Campionato. L’amministratore può quindi decidere di tornare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Bas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oppure ripetere l’operazione di aggiorna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seleziona dalla barra dei menu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Modifica passwo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ichiede che l’amministratore inserisca la nuova password e la conferm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mministratore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Un messaggio avvisa l’amministratore che la password è stata cambiat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500"/>
                            </p:stCondLst>
                            <p:childTnLst>
                              <p:par>
                                <p:cTn id="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Adm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usso Alternativo9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amministratore clicca sul pulsant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nnull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 sulla spunta di chius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torna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rore nell’aggiornamento della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avvisa l’amministratore che si è verificato un errore nell’aggiornamento della password. L’amministratore può quindi decidere di tornare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Bas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oppure ripetere l’operazione di aggiorna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350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Classif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 use case inizia quando l’utente vuole generare la classifica relativa alle giornate gioc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ecupera, dal DataBase Schedina, la lista delle squadre presenti in campionato, per ogni squadra calcola il punteggio ottenu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mostra all’utente la classifica gener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usso Bas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utente clicca sul pulsant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tampa Classi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ecupera, dal DataBase Schedina, la lista delle squadre presenti nel campionato, per ogni squadra calcola il punteggio ottenuto e lo scrive su un file pdf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avvisa l’utente che il promemoria è stato generato corretta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apre il file pdf e lo mostra all’uten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nca il reader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n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usso Alternativo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utente decide di stampare la classifica ma non ha installato un lettore di file pdf, il sistema avvisa l’utente che sul computer manca un lettore 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torna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di b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0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500"/>
                            </p:stCondLst>
                            <p:childTnLst>
                              <p:par>
                                <p:cTn id="7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500"/>
                            </p:stCondLst>
                            <p:childTnLst>
                              <p:par>
                                <p:cTn id="8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65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7000"/>
                            </p:stCondLst>
                            <p:childTnLst>
                              <p:par>
                                <p:cTn id="8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ggetti: gloss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deve poter accedere all’intero campionato tramite un menù a discesa che permette di accedere alla giornata selezionata. Tutti gli utenti possono eseguire tale v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2924280"/>
            <a:ext cx="1360440" cy="50472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ta Giornate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2924280"/>
            <a:ext cx="914400" cy="60948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ornat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zion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292640"/>
            <a:ext cx="770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la prima giornata di campionato non ancora giocata, l’utente pu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re automaticamente il risultato dell’intera giornata, oppure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o più partite. Viene mostrata a video la lista dei risultati gener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5805360"/>
            <a:ext cx="1584360" cy="50328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i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zion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5734080"/>
            <a:ext cx="91440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4720" y="5734080"/>
            <a:ext cx="914400" cy="60948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izz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0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0"/>
                            </p:stCondLst>
                            <p:childTnLst>
                              <p:par>
                                <p:cTn id="8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6000"/>
                            </p:stCondLst>
                            <p:childTnLst>
                              <p:par>
                                <p:cTn id="8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70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chieste del Committente 1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utente, accedendo al programma, deve poter                      effettuare la generazione automatica dell’intera schedina, oppure di una o più part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mite un menù a discesa deve essere possibile selezionare ogni singola giornata di campion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risultati delle giornate già giocate devono essere visibi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 essere possibile stampare le statistiche, il calendario delle partite e una classifica parziale delle squadre in campio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 essere possibile passare facilmente alla modalità di amminist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ti gli utenti devono poter accedere a tale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ggetti: gloss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utente deve poter visualizzare e stampare una classifica parziale delle squadre presenti in campion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2924280"/>
            <a:ext cx="1360800" cy="50472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quadre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2852640"/>
            <a:ext cx="914400" cy="60984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izz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f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292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utente poter stampare il calendario del campion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2852640"/>
            <a:ext cx="91440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f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27640" y="2852640"/>
            <a:ext cx="91440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ancia i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ettore pd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E apri il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1640" y="2852640"/>
            <a:ext cx="1368360" cy="6098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lassific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2852640"/>
            <a:ext cx="91440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m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f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5157720"/>
            <a:ext cx="914400" cy="60984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izz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5157720"/>
            <a:ext cx="91440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5157720"/>
            <a:ext cx="91440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ancia i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ettore pd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E apri il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5157720"/>
            <a:ext cx="1368360" cy="6098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alendario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ggetti: gloss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la prima giornata di campionato non ancora giocata, l’utente  può generare un promemoria contenente le partite e i risultati dell’intera giornata. Viene mostrato a video il file gener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2924280"/>
            <a:ext cx="1360800" cy="50472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ornata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48360" y="2852640"/>
            <a:ext cx="914400" cy="60984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izz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4292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utente deve poter passare alla modalità Amminist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2852640"/>
            <a:ext cx="91440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memo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24360" y="2852640"/>
            <a:ext cx="91440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ancia i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ettore pd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E apri il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2852640"/>
            <a:ext cx="1368360" cy="6098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mamoria_GionataN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5229360"/>
            <a:ext cx="2016360" cy="60948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entic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76720" y="5300640"/>
            <a:ext cx="1562040" cy="50328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ggetti: gloss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ggiornamento del campionato deve poter essere eseguito s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’amministra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2781360"/>
            <a:ext cx="2016000" cy="60948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entic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76720" y="2852640"/>
            <a:ext cx="1562040" cy="50328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292640"/>
            <a:ext cx="748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o l’inserimento o la modifica dei risultati effettuata da un u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inistratore, la visualizzazione dovrà essere aggiorn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5589720"/>
            <a:ext cx="1800360" cy="57600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isci/Aggio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5516640"/>
            <a:ext cx="914400" cy="60948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iz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ultat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giorna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3000"/>
                            </p:stCondLst>
                            <p:childTnLst>
                              <p:par>
                                <p:cTn id="9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ggetti: gloss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essere possibile aggiornare il DataBase in modo da poter caricare un nuovo Campionato. Tale funzione deve essere eseguita dall’amministra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amministratore deve poter passare alla modalità u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27280" y="2781360"/>
            <a:ext cx="914400" cy="6094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ile.sq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2781360"/>
            <a:ext cx="1584360" cy="5763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ggiornamen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84360" y="5013360"/>
            <a:ext cx="91440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al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92720" y="5084640"/>
            <a:ext cx="914400" cy="60984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iz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ssi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ornat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ementi del Model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estra iniziale con possibilità di autent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errore nell’autent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estre lato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iniziale con possibilità di generazione dei pronos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riguardante partite già giocate, con visualizzazione dei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riguardante partite ancora da gio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per il passaggio alla modalità Ad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impossibilità di generazione delle stat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impossibilità di generazione del file di pro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errore nella visualizzazione del file di pro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visualizzazione della classi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errore nella visualizzazione del file di classi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errore nella visualizzazione del file di calend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3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ementi del Model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estre lato 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iniziale con possibilità di inserimento dei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riguardante partite già giocate, con possibilità di modifica dei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riguardante partite ancora da gio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riguardante l’aggiornamento de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per il passaggio alla modalità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per la modifica della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errore nell’ins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errore nella modi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errore nell’Aggiornamento de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estra di errore nella modifica della passa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2276640"/>
            <a:ext cx="2305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pl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 radioButtonD1ItemStateChanged(ItemEvent 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 buttonD1MouseClicked(MouseEvent 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 initComponents(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2494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2637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1341360"/>
            <a:ext cx="9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JDia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1557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17017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1844640"/>
            <a:ext cx="158760" cy="136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989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134136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JFr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1557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40360" y="1701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1844640"/>
            <a:ext cx="158760" cy="136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3236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276640"/>
            <a:ext cx="2305080" cy="720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enuB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enuItem2ActionPerformed(ActionEvent e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itComponents(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9640" y="2494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59640" y="2637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134136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JMenuB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80360" y="1557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80360" y="1701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38920" y="1844640"/>
            <a:ext cx="158760" cy="136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12000" y="1989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2565360"/>
            <a:ext cx="432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27640" y="2565360"/>
            <a:ext cx="432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2419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98000" y="2421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7280" y="321300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JPa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3573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4005360"/>
            <a:ext cx="2305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itComponents(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4221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43639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4005360"/>
            <a:ext cx="2305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itComponents(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2228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4365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59280" y="3716280"/>
            <a:ext cx="158760" cy="136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30920" y="3860640"/>
            <a:ext cx="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373720"/>
            <a:ext cx="2305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ySQL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coonetti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eseguiQuery(StringQue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3640" y="5589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732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5372280"/>
            <a:ext cx="2305080" cy="1009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unzio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getPassword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get_giornata_corrente(String Que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5589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5732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16360" y="2131920"/>
            <a:ext cx="1512720" cy="71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rame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16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16360" y="2492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0836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964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94160" y="5011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5440" y="5011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5092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7964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79640" y="6597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724360" y="501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4520" y="5157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45440" y="573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10160" y="6381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1800" y="5011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37080" y="5011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0160" y="5157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61440" y="5157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5080" y="3859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1800" y="3859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2421000"/>
            <a:ext cx="1513080" cy="718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rame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6360" y="26384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2781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40360" y="1844640"/>
            <a:ext cx="158760" cy="136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19890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997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98764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31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18160" y="2851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13080" y="2851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29800" y="277992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1800" y="31402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443120" y="2276640"/>
            <a:ext cx="22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8520" y="21322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57800" y="21322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7280" y="3716280"/>
            <a:ext cx="158760" cy="136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38560" y="3860640"/>
            <a:ext cx="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86160" y="57326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3284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3080" y="32832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9800" y="51566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451640" y="4581360"/>
            <a:ext cx="1513080" cy="792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ile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accept(File fi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getDescrip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451640" y="47991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494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8360" y="4292640"/>
            <a:ext cx="158760" cy="136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461440" y="443700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82520" y="436428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67640" y="299736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26520" y="2995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028000" y="378936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ile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28000" y="4005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28000" y="4149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9440" y="234828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58160" y="2419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80000" y="1341360"/>
            <a:ext cx="1513080" cy="71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lassif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80000" y="15588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0000" y="170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5065560" y="1567800"/>
            <a:ext cx="158760" cy="136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21928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20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0520" y="19879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21800" y="21322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Conceptual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1627200"/>
            <a:ext cx="2305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pl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 radioButtonD1ItemStateChanged(ItemEvent 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 buttonD1MouseClicked(MouseEvent 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 initComponents(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1844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9875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92360" y="1341360"/>
            <a:ext cx="1513080" cy="71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rame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92360" y="15588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92360" y="170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2421000"/>
            <a:ext cx="1513080" cy="718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rame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16360" y="26384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16360" y="2781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88000" y="1771560"/>
            <a:ext cx="2305080" cy="720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enuB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enuItem2ActionPerformed(ActionEvent e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itComponents(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88000" y="198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88000" y="21319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8000" y="4005360"/>
            <a:ext cx="2305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itComponents(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08000" y="42228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8000" y="4365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59280" y="4005360"/>
            <a:ext cx="2305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itComponents(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59280" y="4221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59280" y="43639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51640" y="4581360"/>
            <a:ext cx="1513080" cy="792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ile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accept(File fi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getDescrip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51640" y="47991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51640" y="494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5372280"/>
            <a:ext cx="2305080" cy="1009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unzio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getPassword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get_giornata_corrente(String Que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5589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5732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3640" y="5373720"/>
            <a:ext cx="2305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ySQL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coonetti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 eseguiQuery(StringQue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03640" y="5589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03640" y="5732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27280" y="170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27280" y="2565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71640" y="148428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3640" y="234936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03640" y="191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7640" y="2781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877080" y="2491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64000" y="170028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72360" y="27082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80000" y="20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08720" y="31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35640" y="35002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306864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0800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08000" y="659772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084720" y="501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9640" y="2637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8360" y="335772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iliz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64000" y="652464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iliz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24000" y="508464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iliz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17080" y="249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5128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56000" y="58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80000" y="5084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8436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76720" y="50846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ss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57800" y="1627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5800" y="162756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57800" y="24912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29800" y="256392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0520" y="515664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34160" y="18432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45440" y="18432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58160" y="2635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34520" y="2419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37080" y="1987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37080" y="3859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64000" y="3067200"/>
            <a:ext cx="27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65800" y="3859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10160" y="49406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81440" y="49406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05440" y="49406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49406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74160" y="2419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30160" y="436428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37440" y="5157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94520" y="5157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45440" y="573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90160" y="5157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37440" y="63086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…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0160" y="2635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5805360"/>
            <a:ext cx="1513080" cy="71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lassif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88000" y="60228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88000" y="6165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36000" y="2492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36000" y="335772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94880" y="2419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50520" y="558828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Navigation Space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87640" y="1630440"/>
            <a:ext cx="2305080" cy="1654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pl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Funzio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MySQL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 radioButtonD1ItemStateChanged(ItemEvent 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 buttonD1MouseClicked(MouseEvent 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 initComponents(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8764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7640" y="2492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124000" y="4076640"/>
            <a:ext cx="1513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rame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MenuB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124000" y="4581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4797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149720"/>
            <a:ext cx="151272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rame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MenuB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32360" y="465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32360" y="4869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03640" y="364500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87640" y="357336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61080" y="3283200"/>
            <a:ext cx="26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73800" y="378792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46520" y="32832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90160" y="385956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6072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76720" y="3284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4000" y="5299200"/>
            <a:ext cx="1512720" cy="1152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Funzio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MySQL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64000" y="58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64000" y="6164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948360" y="5157720"/>
            <a:ext cx="1513080" cy="1152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Funzio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MySQL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48360" y="56642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60228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32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32000" y="558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796000" y="5157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95280" y="5661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940360" y="544500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59280" y="566100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33800" y="5083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78520" y="53722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10520" y="5227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88000" y="5732640"/>
            <a:ext cx="27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576000" cy="430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8101080" y="5084640"/>
            <a:ext cx="574560" cy="4273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4714920" y="522756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3348000" y="400536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5"/>
          <a:stretch/>
        </p:blipFill>
        <p:spPr>
          <a:xfrm>
            <a:off x="6156360" y="4076640"/>
            <a:ext cx="576360" cy="432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 flipH="1">
            <a:off x="363492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95640" y="450864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45440" y="450720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566160" y="450720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373720"/>
            <a:ext cx="2089080" cy="1152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lassif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+crea_classifica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stampClassMouseClicked(MouseEvent 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79280" y="5876640"/>
            <a:ext cx="20890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280" y="59500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00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268360" y="558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70520" y="537228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13080" y="5083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195640" y="566100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1547640" y="5300640"/>
            <a:ext cx="6494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Navigational Structure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87640" y="1630440"/>
            <a:ext cx="2305080" cy="1654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pl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98764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87640" y="2349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24000" y="4076640"/>
            <a:ext cx="151308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rame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24000" y="4581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24000" y="4724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32360" y="4149720"/>
            <a:ext cx="1512720" cy="1008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rame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932360" y="465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32360" y="4797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03640" y="364500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87640" y="357336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61080" y="3283200"/>
            <a:ext cx="26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773800" y="378792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46520" y="32832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90160" y="385956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06072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076720" y="3284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5299200"/>
            <a:ext cx="1512720" cy="1152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64000" y="58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64000" y="5950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948360" y="5157720"/>
            <a:ext cx="1513080" cy="1152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948360" y="56642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48360" y="58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132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132000" y="558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796000" y="5157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95280" y="5661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940360" y="544500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59280" y="566100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133800" y="5083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78520" y="53722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10520" y="52279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588000" y="5732640"/>
            <a:ext cx="27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576000" cy="4302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8101080" y="5084640"/>
            <a:ext cx="574560" cy="4273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4714920" y="522756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3348000" y="400536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6156360" y="4076640"/>
            <a:ext cx="576360" cy="4320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 flipH="1">
            <a:off x="363492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95640" y="450864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45440" y="450720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66160" y="450720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9280" y="5373720"/>
            <a:ext cx="2089080" cy="1152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&lt;&lt;navigational clas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lassif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9280" y="5876640"/>
            <a:ext cx="20890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6021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268360" y="558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70520" y="5372280"/>
            <a:ext cx="3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-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413080" y="50835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95640" y="566100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1547640" y="5300640"/>
            <a:ext cx="6494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fill="hold">
                      <p:stCondLst>
                        <p:cond delay="0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chieste del Committente 2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isultati delle partite svoltesi devono poter essere inseriti solo dall’amministra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volta autenticato, l’amministratore può selezionare una giornata di campionato ed inserire o modificare i risultati dell’intera giornata, oppure di una o più part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alità amministrazione deve essere possibile caricare un nuovo Campionato e modificare la password di ammini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a fine dell’operazione di inserimento/modifica, un messaggio avvisa l’amministratore dell’avvenuto inserimento/modifica, oppure di un eventuale errore occo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Sequence Diagram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292320" cy="423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96360" y="27813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68520" y="242100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68520" y="26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68520" y="27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52880" y="242100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FrameSched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52880" y="26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52880" y="27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65600" y="2421000"/>
            <a:ext cx="9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65600" y="2637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65600" y="2781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05600" y="2421000"/>
            <a:ext cx="1008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aricaGio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05600" y="27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16880" y="242100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DBSched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16880" y="26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16880" y="27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97600" y="2421000"/>
            <a:ext cx="176400" cy="1634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05600" y="2637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314172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00160" y="314172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84520" y="314172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97600" y="314172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81960" y="314172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121600" y="314172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33240" y="3357720"/>
            <a:ext cx="1366920" cy="71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000160" y="3502080"/>
            <a:ext cx="1584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6160" y="3141720"/>
            <a:ext cx="107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re statist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584520" y="3789360"/>
            <a:ext cx="1513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10880" y="3573360"/>
            <a:ext cx="90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itComponen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097600" y="400536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52320" y="3789360"/>
            <a:ext cx="99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alcola_giornata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81960" y="4221000"/>
            <a:ext cx="1439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6320" y="4005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681600" y="4437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259400" y="4437000"/>
            <a:ext cx="43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5097240" y="451008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150160" y="4581360"/>
            <a:ext cx="86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izz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25800" y="3284640"/>
            <a:ext cx="130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D1MouseClicked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fill="hold">
                      <p:stCondLst>
                        <p:cond delay="0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Sequence Diagr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828720" y="2349360"/>
            <a:ext cx="291960" cy="4240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756720" y="27813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40000" y="234936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40000" y="2565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40000" y="2709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50760" y="3070080"/>
            <a:ext cx="0" cy="2019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71640" y="3070080"/>
            <a:ext cx="0" cy="2019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97600" y="3068640"/>
            <a:ext cx="0" cy="201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73960" y="3070080"/>
            <a:ext cx="0" cy="2019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14160" y="4005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12000" y="4437000"/>
            <a:ext cx="43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92720" y="4508640"/>
            <a:ext cx="86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izz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62160" y="3068640"/>
            <a:ext cx="84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ziona tut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33080" y="364500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co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0" y="2347920"/>
            <a:ext cx="1008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ist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270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5364000" y="2347920"/>
            <a:ext cx="176400" cy="1634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4572000" y="2563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20000" y="234936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DBSched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20000" y="2565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020000" y="2709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36720" y="3789360"/>
            <a:ext cx="6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istica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71640" y="3213000"/>
            <a:ext cx="1800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71640" y="3789360"/>
            <a:ext cx="1800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71640" y="4005360"/>
            <a:ext cx="230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76720" y="4149720"/>
            <a:ext cx="2376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076720" y="4437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71280" y="4508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971640" y="3429000"/>
            <a:ext cx="1800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61440" y="3284640"/>
            <a:ext cx="79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ilita calco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0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Sequence Diagr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88880" y="1484280"/>
            <a:ext cx="292320" cy="4237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96360" y="1844640"/>
            <a:ext cx="49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568520" y="148428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68520" y="1700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68520" y="1844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16720" y="148428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16720" y="1700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16720" y="1844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885080" y="1484280"/>
            <a:ext cx="1008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aricaGio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885080" y="184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8677440" y="1484280"/>
            <a:ext cx="176040" cy="1634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788508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2205000"/>
            <a:ext cx="0" cy="41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00160" y="2205000"/>
            <a:ext cx="0" cy="41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76720" y="2276640"/>
            <a:ext cx="0" cy="41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00720" y="2205000"/>
            <a:ext cx="0" cy="41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24360" y="2205000"/>
            <a:ext cx="0" cy="41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459640" y="2205000"/>
            <a:ext cx="0" cy="41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56000" y="24922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ire risulta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97800" y="436572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itComponent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38520" y="4581360"/>
            <a:ext cx="99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alcola_giornata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14160" y="486900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57800" y="5300640"/>
            <a:ext cx="43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5516640"/>
            <a:ext cx="86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izz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270828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10920" y="306864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28720" y="28526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ire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219640" y="148428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meSchedina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19640" y="1700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219640" y="1844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771640" y="1484280"/>
            <a:ext cx="1008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zio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771640" y="1844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3564000" y="1484280"/>
            <a:ext cx="176040" cy="1634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2771640" y="1700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067280" y="1484280"/>
            <a:ext cx="93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DBSched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067280" y="1700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067280" y="1844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1280" y="3357720"/>
            <a:ext cx="136836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26920" y="3213000"/>
            <a:ext cx="9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word inser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357336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125800" y="3357720"/>
            <a:ext cx="83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getPassword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76720" y="3571920"/>
            <a:ext cx="180000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76720" y="378936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566160" y="3573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36720" y="3860640"/>
            <a:ext cx="43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3276720" y="400536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20000" y="2205000"/>
            <a:ext cx="0" cy="417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979280" y="4149720"/>
            <a:ext cx="1297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97080" y="3933720"/>
            <a:ext cx="62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4365720"/>
            <a:ext cx="374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724360" y="4581360"/>
            <a:ext cx="1295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500360" y="5084640"/>
            <a:ext cx="39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00720" y="5157720"/>
            <a:ext cx="39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019640" y="5661000"/>
            <a:ext cx="1439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78520" y="4221000"/>
            <a:ext cx="130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D1MouseClicked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020000" y="4869000"/>
            <a:ext cx="1439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6" dur="indefinite" restart="never" nodeType="tmRoot">
          <p:childTnLst>
            <p:seq>
              <p:cTn id="2637" dur="indefinite" nodeType="mainSeq">
                <p:childTnLst>
                  <p:par>
                    <p:cTn id="2638" fill="hold">
                      <p:stCondLst>
                        <p:cond delay="0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2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upp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utho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’Andrea Annali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585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atti Paol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576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tracca Andre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55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fill="hold">
                      <p:stCondLst>
                        <p:cond delay="0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7" dur="1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8" dur="1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2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7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8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2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3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3284640"/>
            <a:ext cx="820800" cy="5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5013360"/>
            <a:ext cx="820800" cy="5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2060640"/>
            <a:ext cx="820800" cy="5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8520" y="2637000"/>
            <a:ext cx="49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429000"/>
            <a:ext cx="39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5589720"/>
            <a:ext cx="47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419040" cy="608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4869000"/>
            <a:ext cx="419040" cy="608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7672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3645000"/>
            <a:ext cx="212760" cy="183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53020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164360" y="3141720"/>
            <a:ext cx="419040" cy="608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23600" y="3718080"/>
            <a:ext cx="7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B Sched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7240" y="386064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7240" y="5661000"/>
            <a:ext cx="73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anelAd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35002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995640" y="4005360"/>
            <a:ext cx="324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115640" y="3860640"/>
            <a:ext cx="3492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476360" y="2420640"/>
            <a:ext cx="158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284640"/>
            <a:ext cx="151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2349360"/>
            <a:ext cx="3095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3789360"/>
            <a:ext cx="820800" cy="5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17960" y="443700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f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364500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724360" y="371628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Splas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915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95760" indent="-957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eve Descr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920" indent="-7884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ale use case descrive il modo in cui un utente può accedere all’interno del sistema di Generazione Sched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920" indent="-7884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 use case inizia quando l’attore vuole entrare all’interno del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7164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ttore seleziona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Genera Sched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7164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ttore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Va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7164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ttore seleziona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Inserisci Risulta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7164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ichiede che l’attore inserisca la password di amministrazi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7164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attore inserisce la password e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Va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71640"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valida la password inserita e logga l’attore nel siste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Splas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sso Alternati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word non va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nel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usso Alternativo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’attore inserisce una password non valida,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stema visualizza un messaggio di err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’attore può scegliere di ritornare al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usso Ba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al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usso Alternativo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pure chiudere lo splash e a quel punto lo use-case term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-Case: PanelU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eve Descr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le use case permette ad un utente di generare automaticamente 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lla prossima giornata di campionato, di visualizzare i risultati della giornat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ionato già giocate, di visualizzare le giornate ancora da giocare o, infine,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are alla modalità di amministr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Us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218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0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 use case inizia quando l’utente vuole generare i risultati di una o più partite della prossima giornata di campionato, oppure vuole visualizzare le altre giorn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3837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ecupera la lista delle partite della prossima giornata di campionato dal DataBase Schedina e la visualizza all’uten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3837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ichiede che l’utente selezioni almeno una delle partite, oppure clicchi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Seleziona Tutto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per selezionare tutte le partite della giornat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3837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Se almeno una partita è stata selezionata il sistema attiva i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Calcol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3837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a pressione del pulsante provoca l’esecuzione della funzione “calcola_giornata” che restituisce a video il pronostico per le partite seleziona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04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e giornate di campi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poter generare delle statistiche significative il sistema deve prendere in esame i risultati delle cinque giornate precedenti. Nelle prime cinque giornate di campionato alla pressione del pulsant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alcola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istema mostra un messaggio che avvisa l’utente dell’impossibilità di generare statisti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Use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530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seleziona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Genera Promemoria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dal menu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 Fil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presente sulla barra dei men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ecupera, dal DataBase Schedina, la lista delle partite ed i rispettivi risultati, in base alla giornata selezionata e li scrive su di un file pd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avvisa l’utente che il promemoria è stato generato corretta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apre il file pdf e lo mostra all’uten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nca il reader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n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usso Alternativo2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utente decide di generare il promemoria ma non ha installato un lettore di file pdf.Il sistema avvisa l’utente che sul computer manca un lettore 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torna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di b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e giornate di campi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n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usso Alternativo2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utente decide di generare il promemoria ma il sistema non ha dati sufficienti per generare le statistiche, il sistema avvisa l’utente dell’impossibilità di generare un promemo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torna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di b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0" y="75168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5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0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Use-Case: PanelUse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530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seleziona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Genera Calendario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dal menu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 Fil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presente sulla barra dei men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recupera, dal DataBase Schedina, la lista degli incontri per ogni giornata di campionato e scrive il tutto su di un file pd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avvisa l’utente che il calendario è stato generato corretta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clicca sul pulsante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sistema apre il file pdf e lo mostra all’uten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381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nca il reader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n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usso Alternativo5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utente decide di generare il calendario ma non ha installato un lettore di file pdf, il sistema avvisa l’utente che sul computer manca un lettore 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torna al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Flusso di ba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lusso Alternativo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seleziona 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Genera Classifica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dal menu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 Fil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presente sulla barra dei men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374"/>
              </a:spcBef>
              <a:buClr>
                <a:srgbClr val="ccccf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’utente passa allo use case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Classif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" y="75168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500"/>
                            </p:stCondLst>
                            <p:childTnLst>
                              <p:par>
                                <p:cTn id="4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500"/>
                            </p:stCondLst>
                            <p:childTnLst>
                              <p:par>
                                <p:cTn id="4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500"/>
                            </p:stCondLst>
                            <p:childTnLst>
                              <p:par>
                                <p:cTn id="4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1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3:45:08Z</dcterms:created>
  <dc:creator>Annalisa</dc:creator>
  <dc:description/>
  <dc:language>en-US</dc:language>
  <cp:lastModifiedBy>Nome utente</cp:lastModifiedBy>
  <dcterms:modified xsi:type="dcterms:W3CDTF">2007-07-02T14:50:52Z</dcterms:modified>
  <cp:revision>88</cp:revision>
  <dc:subject/>
  <dc:title>Generazione Schedina Automatica</dc:title>
</cp:coreProperties>
</file>